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109-81D8-42EB-BC0B-0F22BD0B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36A-2B80-4768-B6CD-38786204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1A3-07F7-4D53-87EC-686BA98C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4D4-9F63-48F4-A546-D5B49B89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598-FB5C-433E-9406-CC7BF1A4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888-BAC5-413B-967B-EEBAD3F9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C38-038A-4501-9D8D-F2C9691F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973-74F2-4919-904D-071828A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390-7CE9-4BBC-B379-23A5C7A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30C-0DCD-4484-911C-B5F8F4E2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A48-B74B-45F4-AD0F-8003F93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076-6778-4D54-9C25-11C947A7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9C5E-971B-49F7-AD53-D7A59234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377" r="76500" b="51139"/>
          <a:stretch/>
        </p:blipFill>
        <p:spPr>
          <a:xfrm>
            <a:off x="0" y="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82560" y="0"/>
            <a:ext cx="7561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4006" t="0" r="0" b="50009"/>
          <a:stretch/>
        </p:blipFill>
        <p:spPr>
          <a:xfrm>
            <a:off x="0" y="0"/>
            <a:ext cx="7714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1000" y="0"/>
            <a:ext cx="7623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0120" y="546120"/>
            <a:ext cx="79437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00120" y="806400"/>
            <a:ext cx="61419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3:48:20Z</dcterms:created>
  <dc:creator>lucy/laffitte</dc:creator>
  <dc:description/>
  <dc:language>en-US</dc:language>
  <cp:lastModifiedBy>lucy/laffitte</cp:lastModifiedBy>
  <dcterms:modified xsi:type="dcterms:W3CDTF">2011-05-09T12:48:09Z</dcterms:modified>
  <cp:revision>3</cp:revision>
  <dc:subject/>
  <dc:title>PowerPoint Presentation</dc:title>
</cp:coreProperties>
</file>